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B84-3116-4371-A878-66BA1F5C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5CD-2C2A-43CE-AECB-738FE626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25D-126B-42B3-B93D-35841A9A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5DD-7594-465F-881C-D2D73019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FFD5-74EA-4736-B1F0-B534010D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E8BF-A7D9-4AA9-A07A-98A6526D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9DBE-CE89-4278-852A-CD05271B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CC4-D3DF-4758-AAA1-9584AD32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D5CF-7836-4D70-9D3C-9FAF395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3A18-0886-4CC3-A7A1-74B7F8D0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1061-423C-4DAF-BBBC-1EC935BB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FDD-D2E1-44AA-BE71-136EC4FC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59E-DE78-4C7E-BA36-F951D35C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39AA-39D4-4BB7-AB78-65B09D65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055F-DDD8-4792-BE5F-E3E8F6ED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4A6C-849B-41C6-8885-DA851B7D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9C33-968C-4167-8C0A-B3E43BF7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F462-C898-4B9E-802E-B8AC2858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41AA-817D-4058-BF13-9F5D65A9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8148-CDD1-4CD9-BE54-359E1016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196B-0A45-4D7B-BFA0-7D26B47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31E9-4621-4358-99F8-45C5603A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104-A727-4216-B731-91C779EF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4A65-3EE7-4F43-90CA-25DC9768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C510-0C92-486E-ABED-F5EA554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4702-29F5-49D5-84FC-D3B4F811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382B-A12C-4E43-AED8-7CC24E80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17E5-1177-4CE9-98F9-C5C136BA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9461-6DCD-425B-AA68-46CFA98C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C572-527E-4E9A-A2B2-31B168DB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73E4-13A3-40DB-8B3B-F14B2573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A1632-A1F6-499D-BE8D-C86F47EC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4B2E-C55C-46DC-878D-DDE00139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289-0A49-48B9-868D-BE89095D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0D6C-A396-437E-A0F6-F8751B05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2531-C6E3-45A6-9C6C-F2C969C8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5A7A-E44E-45F1-9FDC-4A04D487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75F9-18E4-4615-9F3A-AD9DE70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D463-4B7E-4F3F-953F-1EC69065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94D8-225D-447A-9CDC-930695E8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6084B-2A02-4B08-ABE1-3A9563B2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914F-9AFC-49A4-9C08-99D33949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0985A-713D-4547-A614-6E41575D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69128-0DA4-4B7D-B273-8827E9E6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1C5-6C7C-4F5E-B146-392ECCE2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47BF-8F71-45BF-9B7C-C44F68D0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73CCB-D701-4E0D-B232-A0553D1A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F7F95-44A3-482D-9A9A-2ED612F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0EB08-15D0-44BE-B4B7-D04C3285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DD818-3341-4017-A2E3-C182F1C5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6E4F-693A-4D1D-8D49-C65E7318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BD80-2278-427B-B253-2E49426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B5AF8-D762-4F21-9250-96B09C0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4230F-3710-4BC5-BAA6-3375A88A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16C78-8945-4305-991D-FBFC83E2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770-D437-4B58-AF02-385CBB61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D6483-9641-4594-AD34-8C650465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6CA6-5E79-43D7-AB23-D4916F5D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77814-6D20-4F6C-9E2D-28BE9C6B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FEBBB-F2DD-4146-AEC8-ACFAD4ED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A9ED7-CE16-4B84-B730-43A04C5D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960D0-1EED-4342-96B8-79A806A3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B5F0-E106-496E-ACCB-B4D848B0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3F2C5-E543-446E-8621-F141AC68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153CF-34B6-4351-81D9-13E894F6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4BCD9-2DC3-47EF-A58F-0BA3E6FD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B7C-26FE-41F5-A64D-C7FC7E9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C9E48-4920-4147-AB52-5BC00026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B2AD7-7A8A-408C-B703-8A084391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1A2F5-23F7-405F-8B54-C7A17E12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4FFA6-9AA3-4042-ADBD-306BAE00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D6CC0-5CE6-4496-B660-08619E0D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46749-DBDE-4F11-8357-8A5EC2C3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10444-1136-47AA-A543-D317AA8A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E6A80-82DF-4DB6-86EF-427F9298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97FCC-8B5C-4B88-9850-837848D3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90D80-2574-43ED-8374-5CAB91B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24A-E917-4562-8804-5B8252F8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42BEE-0AC5-4DA0-B924-A84DB87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5B61F-59F1-400B-BD17-BCD6DFF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DAE5A-8FC7-493B-811A-CA2B0C46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005B-95D9-4AA8-84C8-4D4114BE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5FBD7-43DF-4053-88D0-F3627D10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BF5-B87A-4624-94BD-6B43148D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E19B8-E02E-4B77-955A-FC3F20EF1ECE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AC778-7538-4310-A557-0AC53928EAC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DE515-F891-42F6-B17E-17EF986C12A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6A2F3-203E-4D20-8250-B45FCB6ADF80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20A7E-5362-43E0-9345-EC60A59E6218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E6217-58DA-4E27-9333-CCE9CAFD3D2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87B7D-3360-4141-ADA3-5107197D630D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16F46-B43B-467A-998E-9F7132D8413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610D8-E2B7-41DA-B32B-2D6DF7923E5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9DAA1-079A-4540-B403-4DD920DF821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5DE75-FB10-4CE8-9D0A-6EA8605AB597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902C2-48CC-4927-9755-D3133C54FFC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4E5AD-89A6-4A7F-A805-B026E7329512}" type="datetime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A56AC-156E-4A7B-AF39-F3D2AB9E7E0C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38360"/>
            <a:ext cx="8571240" cy="151128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46320"/>
            <a:ext cx="8394840" cy="1865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3"/>
          <a:stretch/>
        </p:blipFill>
        <p:spPr>
          <a:xfrm>
            <a:off x="0" y="3370320"/>
            <a:ext cx="442584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742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s think writing is har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s think that their writing has to be perf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s feel like their ideas aren’t good enoug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s take too long to writ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 don’t think they know how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to writ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others??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6934320" y="3943440"/>
            <a:ext cx="2133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97599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218960"/>
            <a:ext cx="82296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make writing do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have students understand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that writing is a process that can take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a long time to perfec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have students write some short stories, quick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give students opportunities to succeed in writ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remind students that writing is fu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6324480" y="539640"/>
            <a:ext cx="2670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quick, fun writing activiti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group writing activ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haring about lif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haring as a clas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mixing it u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3886200" y="3081240"/>
            <a:ext cx="5105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entence pass activ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have each student start with a sentence (about anything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pass paper to the right and the next student continues on with the stor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fold paper so  you can only see the last sentence and continu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tip: no names of people in the class, keep it school appropri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5565600" y="969840"/>
            <a:ext cx="3121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3716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synonyms and antonym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have students fold a paper into third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number 1-5 down the left hand sid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give them five words to write down and then have them fill in the M (s) and R (a) colum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students then write a story using five of the words (at least one from each column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71360" indent="-2214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tip: great time to refresh synonyms and antonym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71360" indent="-2214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tip: works well for ALL writing levels because students word choice is based on what they know (everyone wi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2"/>
          <a:stretch/>
        </p:blipFill>
        <p:spPr>
          <a:xfrm>
            <a:off x="0" y="495288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first thought stor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 Condensed"/>
              </a:rPr>
              <a:t>number your paper 1-5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 Condensed"/>
              </a:rPr>
              <a:t>I’m going to say a word, please write down the first word that comes to mind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1. smil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2. caterpill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3. vaca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4. penci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5. musi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Now use these five words to create a story that is at least five sentences long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*for an extra challenge try to use your words in ord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3121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do what works for you and your studen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this is what works for me right now…who knows about next yea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adapt and adop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if someone else is doing something cool, try it (especially on the web ie: googledoc or blog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try it ou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Don’t be afraid, tell your students this is new (fine tune as the day, week, and year goes on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457200" y="0"/>
            <a:ext cx="29178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535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39:30Z</dcterms:created>
  <dc:creator>clare ogle</dc:creator>
  <dc:description/>
  <dc:language>en-US</dc:language>
  <cp:lastModifiedBy> </cp:lastModifiedBy>
  <dcterms:modified xsi:type="dcterms:W3CDTF">2011-01-10T16:04:15Z</dcterms:modified>
  <cp:revision>16</cp:revision>
  <dc:subject/>
  <dc:title>creative writing</dc:title>
</cp:coreProperties>
</file>